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819F6E-C1E2-4D4B-81CD-2B81E70E6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628296-DE29-4588-AB46-2A5C9E34E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DB0-30A5-4A62-9AC3-64473668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028-E933-4E77-A624-00DAF8FF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FF1-1793-4093-B681-FB4BCEBE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07D-59B4-470C-AE80-E82D93F8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D72-B411-43B1-A4C0-462FD0DA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1F1-77A8-461E-9D29-215E376F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2AD-783F-47FE-9C55-04CB2FC4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F17-6021-40A3-8D05-19E471B7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76A-95D1-46BC-AC5A-BCB6E767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1A4-4F08-47C6-A1E1-A033B252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A73-CA45-43F5-B390-3160F449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7C5-4B6F-4310-A833-9A67B911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0F63-DB52-4C1E-A93A-9E28615DEE5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405C-66E9-445A-84E3-0B0298515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3D41-0F6A-4D70-848B-937D0769C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5539-9A19-489F-9A51-AA6772B07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E9C0-A3D4-4A54-86B6-BEE2AF4C5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2495520" y="1504080"/>
            <a:ext cx="5202000" cy="5155200"/>
            <a:chOff x="2495520" y="1504080"/>
            <a:chExt cx="5202000" cy="5155200"/>
          </a:xfrm>
        </p:grpSpPr>
        <p:grpSp>
          <p:nvGrpSpPr>
            <p:cNvPr id="62" name="Group 44"/>
            <p:cNvGrpSpPr/>
            <p:nvPr/>
          </p:nvGrpSpPr>
          <p:grpSpPr>
            <a:xfrm>
              <a:off x="2495520" y="1504080"/>
              <a:ext cx="5202000" cy="5155200"/>
              <a:chOff x="2495520" y="1504080"/>
              <a:chExt cx="5202000" cy="5155200"/>
            </a:xfrm>
          </p:grpSpPr>
          <p:grpSp>
            <p:nvGrpSpPr>
              <p:cNvPr id="63" name="Group 46"/>
              <p:cNvGrpSpPr/>
              <p:nvPr/>
            </p:nvGrpSpPr>
            <p:grpSpPr>
              <a:xfrm>
                <a:off x="2495520" y="1504080"/>
                <a:ext cx="5202000" cy="5155200"/>
                <a:chOff x="2495520" y="1504080"/>
                <a:chExt cx="5202000" cy="5155200"/>
              </a:xfrm>
            </p:grpSpPr>
            <p:sp>
              <p:nvSpPr>
                <p:cNvPr id="64" name="Oval 67"/>
                <p:cNvSpPr/>
                <p:nvPr/>
              </p:nvSpPr>
              <p:spPr>
                <a:xfrm>
                  <a:off x="2674800" y="1697040"/>
                  <a:ext cx="4826160" cy="4753080"/>
                </a:xfrm>
                <a:prstGeom prst="ellipse">
                  <a:avLst/>
                </a:prstGeom>
                <a:solidFill>
                  <a:srgbClr val="8eb4e3"/>
                </a:solidFill>
                <a:ln w="10800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Isosceles Triangle 68"/>
                <p:cNvSpPr/>
                <p:nvPr/>
              </p:nvSpPr>
              <p:spPr>
                <a:xfrm>
                  <a:off x="2495520" y="3886200"/>
                  <a:ext cx="360360" cy="37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Isosceles Triangle 69"/>
                <p:cNvSpPr/>
                <p:nvPr/>
              </p:nvSpPr>
              <p:spPr>
                <a:xfrm rot="2239800">
                  <a:off x="3178080" y="2231640"/>
                  <a:ext cx="3585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Isosceles Triangle 70"/>
                <p:cNvSpPr/>
                <p:nvPr/>
              </p:nvSpPr>
              <p:spPr>
                <a:xfrm rot="5659200">
                  <a:off x="5014080" y="150984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Isosceles Triangle 71"/>
                <p:cNvSpPr/>
                <p:nvPr/>
              </p:nvSpPr>
              <p:spPr>
                <a:xfrm rot="12623400">
                  <a:off x="7040160" y="511128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Isosceles Triangle 72"/>
                <p:cNvSpPr/>
                <p:nvPr/>
              </p:nvSpPr>
              <p:spPr>
                <a:xfrm rot="7923600">
                  <a:off x="6603480" y="22809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Isosceles Triangle 73"/>
                <p:cNvSpPr/>
                <p:nvPr/>
              </p:nvSpPr>
              <p:spPr>
                <a:xfrm rot="18501600">
                  <a:off x="3242880" y="55386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Isosceles Triangle 74"/>
                <p:cNvSpPr/>
                <p:nvPr/>
              </p:nvSpPr>
              <p:spPr>
                <a:xfrm rot="13861800">
                  <a:off x="6027480" y="600192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Isosceles Triangle 75"/>
                <p:cNvSpPr/>
                <p:nvPr/>
              </p:nvSpPr>
              <p:spPr>
                <a:xfrm rot="16801200">
                  <a:off x="4813200" y="62607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Isosceles Triangle 76"/>
                <p:cNvSpPr/>
                <p:nvPr/>
              </p:nvSpPr>
              <p:spPr>
                <a:xfrm rot="10461600">
                  <a:off x="7319520" y="38682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TextBox 47"/>
              <p:cNvSpPr/>
              <p:nvPr/>
            </p:nvSpPr>
            <p:spPr>
              <a:xfrm rot="15177000">
                <a:off x="2502720" y="4564080"/>
                <a:ext cx="116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ite sel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Box 48"/>
              <p:cNvSpPr/>
              <p:nvPr/>
            </p:nvSpPr>
            <p:spPr>
              <a:xfrm rot="15543000">
                <a:off x="2585160" y="4059720"/>
                <a:ext cx="154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haracteris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Box 49"/>
              <p:cNvSpPr/>
              <p:nvPr/>
            </p:nvSpPr>
            <p:spPr>
              <a:xfrm rot="17272200">
                <a:off x="2543400" y="3156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ypolog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Box 50"/>
              <p:cNvSpPr/>
              <p:nvPr/>
            </p:nvSpPr>
            <p:spPr>
              <a:xfrm rot="18132000">
                <a:off x="3078360" y="2994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roblem 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51"/>
              <p:cNvSpPr/>
              <p:nvPr/>
            </p:nvSpPr>
            <p:spPr>
              <a:xfrm rot="19540200">
                <a:off x="3205080" y="22669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Op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52"/>
              <p:cNvSpPr/>
              <p:nvPr/>
            </p:nvSpPr>
            <p:spPr>
              <a:xfrm rot="20122800">
                <a:off x="3803040" y="23623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Entry poi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Box 53"/>
              <p:cNvSpPr/>
              <p:nvPr/>
            </p:nvSpPr>
            <p:spPr>
              <a:xfrm rot="217200">
                <a:off x="4754520" y="2107800"/>
                <a:ext cx="10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Research tea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Box 54"/>
              <p:cNvSpPr/>
              <p:nvPr/>
            </p:nvSpPr>
            <p:spPr>
              <a:xfrm rot="907200">
                <a:off x="5308200" y="189216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ode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Box 55"/>
              <p:cNvSpPr/>
              <p:nvPr/>
            </p:nvSpPr>
            <p:spPr>
              <a:xfrm rot="1968600">
                <a:off x="5461200" y="240336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articipatory evalu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Box 56"/>
              <p:cNvSpPr/>
              <p:nvPr/>
            </p:nvSpPr>
            <p:spPr>
              <a:xfrm rot="3493800">
                <a:off x="6319080" y="285948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apt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Box 57"/>
              <p:cNvSpPr/>
              <p:nvPr/>
            </p:nvSpPr>
            <p:spPr>
              <a:xfrm rot="4278000">
                <a:off x="6038640" y="3435480"/>
                <a:ext cx="12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omb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Box 58"/>
              <p:cNvSpPr/>
              <p:nvPr/>
            </p:nvSpPr>
            <p:spPr>
              <a:xfrm rot="4933800">
                <a:off x="6460200" y="349920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arm-level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Box 59"/>
              <p:cNvSpPr/>
              <p:nvPr/>
            </p:nvSpPr>
            <p:spPr>
              <a:xfrm rot="6523200">
                <a:off x="6014880" y="4361400"/>
                <a:ext cx="131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ustainability / resili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Box 60"/>
              <p:cNvSpPr/>
              <p:nvPr/>
            </p:nvSpPr>
            <p:spPr>
              <a:xfrm rot="6772200">
                <a:off x="6442920" y="458100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DS too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Box 61"/>
              <p:cNvSpPr/>
              <p:nvPr/>
            </p:nvSpPr>
            <p:spPr>
              <a:xfrm rot="8275200">
                <a:off x="5905440" y="542952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eta 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Box 62"/>
              <p:cNvSpPr/>
              <p:nvPr/>
            </p:nvSpPr>
            <p:spPr>
              <a:xfrm rot="9102000">
                <a:off x="5336280" y="52099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orecast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Box 63"/>
              <p:cNvSpPr/>
              <p:nvPr/>
            </p:nvSpPr>
            <p:spPr>
              <a:xfrm rot="10084200">
                <a:off x="4894200" y="585000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Validate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Box 64"/>
              <p:cNvSpPr/>
              <p:nvPr/>
            </p:nvSpPr>
            <p:spPr>
              <a:xfrm rot="11631000">
                <a:off x="4036680" y="54835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caling approach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Box 65"/>
              <p:cNvSpPr/>
              <p:nvPr/>
            </p:nvSpPr>
            <p:spPr>
              <a:xfrm rot="12174000">
                <a:off x="3740760" y="578376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ggregated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Box 66"/>
              <p:cNvSpPr/>
              <p:nvPr/>
            </p:nvSpPr>
            <p:spPr>
              <a:xfrm rot="13439400">
                <a:off x="3100680" y="5019480"/>
                <a:ext cx="1385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Implemntation sup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TextBox 45"/>
            <p:cNvSpPr/>
            <p:nvPr/>
          </p:nvSpPr>
          <p:spPr>
            <a:xfrm rot="20589600">
              <a:off x="4019760" y="1876320"/>
              <a:ext cx="108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96" name="Chart 123" descr=""/>
          <p:cNvPicPr/>
          <p:nvPr/>
        </p:nvPicPr>
        <p:blipFill>
          <a:blip r:embed="rId2"/>
          <a:stretch/>
        </p:blipFill>
        <p:spPr>
          <a:xfrm>
            <a:off x="2862360" y="2428920"/>
            <a:ext cx="4411440" cy="3274920"/>
          </a:xfrm>
          <a:prstGeom prst="rect">
            <a:avLst/>
          </a:prstGeom>
          <a:ln w="0">
            <a:noFill/>
          </a:ln>
        </p:spPr>
      </p:pic>
      <p:pic>
        <p:nvPicPr>
          <p:cNvPr id="97" name="Chart 124" descr=""/>
          <p:cNvPicPr/>
          <p:nvPr/>
        </p:nvPicPr>
        <p:blipFill>
          <a:blip r:embed="rId3"/>
          <a:stretch/>
        </p:blipFill>
        <p:spPr>
          <a:xfrm>
            <a:off x="2862360" y="2425680"/>
            <a:ext cx="4411440" cy="3274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B7A3-9219-4386-B01D-F58E29A99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9"/>
          <p:cNvSpPr/>
          <p:nvPr/>
        </p:nvSpPr>
        <p:spPr>
          <a:xfrm>
            <a:off x="3792600" y="29257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80"/>
          <p:cNvSpPr/>
          <p:nvPr/>
        </p:nvSpPr>
        <p:spPr>
          <a:xfrm>
            <a:off x="5173560" y="310356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62C1-D7EC-4AC2-8AB0-C6459F678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D391-3FC2-4900-A61F-9106B345C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440E-6B2C-43B7-9C28-B2EE106FC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Rese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CGIAR, NARS, Universities,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GP initiatives, USAID, 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onor initiatives: DfID, ACIAR, EU, I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4DAC-14A6-46DA-94BD-B0DCCE15C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8T05:07:45Z</dcterms:modified>
  <cp:revision>87</cp:revision>
  <dc:subject/>
  <dc:title>PowerPoint Presentation</dc:title>
</cp:coreProperties>
</file>